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CAMERA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E1A-671A-4931-844C-F58673D8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D7E-6FD1-4C5D-A770-3E8A4FE8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667-6016-4C2E-89DD-A3B8C271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0E8-8B2A-434D-9D1B-0827E2F1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41AF-E116-4B49-978F-29F1E23B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388A-4075-4273-B2F3-4F860513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77CB-D4C2-41DC-B5A8-5FD51F94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15C5-FAC1-4243-8FB7-AEFF24B7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3318-59E5-4F22-B815-EF6A7A8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1482-A3C8-4D40-9654-E1B48543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E4B1-7381-4E56-BB6C-7D266478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E21-D233-4DBD-A5ED-B6407698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8AFF-4F7E-42F6-9C67-24B7BE62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EA7E-DE67-403A-B0B6-2917C8E6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4BE9-E026-4F2C-B7F7-AA41189E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2EDB-C27F-43AA-A45F-2B82EED5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F324-DE4C-4D11-84BC-B38934DA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3FC-CF5D-48D7-9B3A-BAD7BFA1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574-7C9A-40AF-A436-40491F6D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2D3-E701-4001-BD02-1F951251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8A6-DE78-48BF-95E0-14A781ED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DE8-FBA6-46AF-9D40-BA17BF1E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58D-2CF7-40C7-87FE-44D817FF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0A7-E988-4F7F-80E9-76C5924B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1FF0-8F80-4F75-9749-CFF61AAB7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DAF1-C9A0-4B90-AC37-65B69067F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udent Writing Worksho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heart says to write.  My hands want to write.  My mind has ideas.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w do 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t it all on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val 2"/>
          <p:cNvSpPr/>
          <p:nvPr/>
        </p:nvSpPr>
        <p:spPr>
          <a:xfrm>
            <a:off x="533520" y="228600"/>
            <a:ext cx="7543800" cy="6629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 flipH="1">
            <a:off x="1447560" y="3429000"/>
            <a:ext cx="289548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343400" y="3429000"/>
            <a:ext cx="3657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5"/>
          <p:cNvSpPr/>
          <p:nvPr/>
        </p:nvSpPr>
        <p:spPr>
          <a:xfrm flipV="1">
            <a:off x="4267080" y="533160"/>
            <a:ext cx="160020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 flipH="1" flipV="1">
            <a:off x="1219320" y="1828440"/>
            <a:ext cx="3124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4343400" y="3429000"/>
            <a:ext cx="91440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429000" y="2971800"/>
            <a:ext cx="175248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Sensory Ch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 rot="4344000">
            <a:off x="2460240" y="1347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Tas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 rot="20015400">
            <a:off x="5563080" y="2057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Sm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 rot="1469400">
            <a:off x="5637960" y="46479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3"/>
          <p:cNvSpPr/>
          <p:nvPr/>
        </p:nvSpPr>
        <p:spPr>
          <a:xfrm rot="17986200">
            <a:off x="2500200" y="519624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99072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 rot="19686000">
            <a:off x="4267080" y="2209320"/>
            <a:ext cx="1676520" cy="381240"/>
          </a:xfrm>
          <a:prstGeom prst="rightArrow">
            <a:avLst>
              <a:gd name="adj1" fmla="val 50000"/>
              <a:gd name="adj2" fmla="val 10993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2209680" y="28195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 rot="20125800">
            <a:off x="3508200" y="1080720"/>
            <a:ext cx="381240" cy="1676520"/>
          </a:xfrm>
          <a:prstGeom prst="upArrow">
            <a:avLst>
              <a:gd name="adj1" fmla="val 50000"/>
              <a:gd name="adj2" fmla="val 10993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 rot="1531200">
            <a:off x="3505320" y="3276360"/>
            <a:ext cx="380880" cy="1447560"/>
          </a:xfrm>
          <a:prstGeom prst="downArrow">
            <a:avLst>
              <a:gd name="adj1" fmla="val 50000"/>
              <a:gd name="adj2" fmla="val 9501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 rot="1513200">
            <a:off x="4343040" y="3428640"/>
            <a:ext cx="1676520" cy="380880"/>
          </a:xfrm>
          <a:prstGeom prst="rightArrow">
            <a:avLst>
              <a:gd name="adj1" fmla="val 50000"/>
              <a:gd name="adj2" fmla="val 11004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86728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172200" y="3809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590920" y="4648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06668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828800" y="685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4648320" y="5029200"/>
            <a:ext cx="3733560" cy="1015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 W’s Gra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rratives, news, st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3"/>
          <p:cNvSpPr/>
          <p:nvPr/>
        </p:nvSpPr>
        <p:spPr>
          <a:xfrm rot="577800">
            <a:off x="6400800" y="990360"/>
            <a:ext cx="1676520" cy="510516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978120 h 5105160"/>
              <a:gd name="textAreaBottom" fmla="*/ 3724200 h 510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78" stAng="-5400000" swAng="5400000"/>
                <a:lnTo>
                  <a:pt x="21600" y="11618"/>
                </a:lnTo>
                <a:arcTo wR="21600" hR="8278" stAng="0" swAng="2838337"/>
                <a:lnTo>
                  <a:pt x="7200" y="21127"/>
                </a:lnTo>
                <a:lnTo>
                  <a:pt x="0" y="18225"/>
                </a:lnTo>
                <a:lnTo>
                  <a:pt x="7200" y="14377"/>
                </a:lnTo>
                <a:lnTo>
                  <a:pt x="7200" y="16082"/>
                </a:lnTo>
                <a:arcTo wR="21600" hR="8278" stAng="2838337" swAng="-2567530"/>
                <a:lnTo>
                  <a:pt x="21156" y="9948"/>
                </a:lnTo>
                <a:arcTo wR="21600" hR="8278" stAng="-270807" swAng="-5129193"/>
                <a:close/>
              </a:path>
              <a:path fill="darkenLess" w="21600" h="21600">
                <a:moveTo>
                  <a:pt x="0" y="0"/>
                </a:moveTo>
                <a:arcTo wR="21600" hR="8278" stAng="-5400000" swAng="5400000"/>
                <a:lnTo>
                  <a:pt x="21600" y="11618"/>
                </a:lnTo>
                <a:arcTo wR="21600" hR="8278" stAng="0" swAng="-270807"/>
                <a:lnTo>
                  <a:pt x="21156" y="9948"/>
                </a:lnTo>
                <a:arcTo wR="21600" hR="8278" stAng="-270807" swAng="-5129193"/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5"/>
          <p:cNvSpPr/>
          <p:nvPr/>
        </p:nvSpPr>
        <p:spPr>
          <a:xfrm rot="20440800">
            <a:off x="1185840" y="114120"/>
            <a:ext cx="5181480" cy="2057400"/>
          </a:xfrm>
          <a:custGeom>
            <a:avLst/>
            <a:gdLst>
              <a:gd name="textAreaLeft" fmla="*/ 955440 w 5181480"/>
              <a:gd name="textAreaRight" fmla="*/ 3470040 w 5181480"/>
              <a:gd name="textAreaTop" fmla="*/ 275400 h 2057400"/>
              <a:gd name="textAreaBottom" fmla="*/ 17820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68" hR="21600" stAng="10800000" swAng="5400000"/>
                <a:lnTo>
                  <a:pt x="10482" y="0"/>
                </a:lnTo>
                <a:arcTo wR="7968" hR="21600" stAng="-5400000" swAng="2261995"/>
                <a:lnTo>
                  <a:pt x="20823" y="12296"/>
                </a:lnTo>
                <a:lnTo>
                  <a:pt x="17193" y="21600"/>
                </a:lnTo>
                <a:lnTo>
                  <a:pt x="12009" y="12296"/>
                </a:lnTo>
                <a:lnTo>
                  <a:pt x="15159" y="12296"/>
                </a:lnTo>
                <a:arcTo wR="7968" hR="21600" stAng="-3138005" swAng="-2059634"/>
                <a:lnTo>
                  <a:pt x="9225" y="270"/>
                </a:lnTo>
                <a:arcTo wR="7968" hR="21600" stAng="-5602361" swAng="-5197639"/>
                <a:close/>
              </a:path>
              <a:path fill="darkenLess" w="21600" h="21600">
                <a:moveTo>
                  <a:pt x="0" y="21600"/>
                </a:moveTo>
                <a:arcTo wR="7968" hR="21600" stAng="10800000" swAng="5400000"/>
                <a:lnTo>
                  <a:pt x="7968" y="0"/>
                </a:lnTo>
                <a:arcTo wR="7968" hR="21600" stAng="-5400000" swAng="202361"/>
                <a:lnTo>
                  <a:pt x="9225" y="270"/>
                </a:lnTo>
                <a:arcTo wR="7968" hR="21600" stAng="-5602361" swAng="-5197639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7"/>
          <p:cNvSpPr/>
          <p:nvPr/>
        </p:nvSpPr>
        <p:spPr>
          <a:xfrm rot="12298800">
            <a:off x="837720" y="4038120"/>
            <a:ext cx="4648320" cy="2286000"/>
          </a:xfrm>
          <a:custGeom>
            <a:avLst/>
            <a:gdLst>
              <a:gd name="textAreaLeft" fmla="*/ 883080 w 4648320"/>
              <a:gd name="textAreaRight" fmla="*/ 3020760 w 4648320"/>
              <a:gd name="textAreaTop" fmla="*/ 306000 h 2286000"/>
              <a:gd name="textAreaBottom" fmla="*/ 19800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09" hR="21600" stAng="10800000" swAng="5400000"/>
                <a:lnTo>
                  <a:pt x="9933" y="0"/>
                </a:lnTo>
                <a:arcTo wR="8209" hR="21600" stAng="-5400000" swAng="2824095"/>
                <a:lnTo>
                  <a:pt x="21131" y="14400"/>
                </a:lnTo>
                <a:lnTo>
                  <a:pt x="17280" y="21600"/>
                </a:lnTo>
                <a:lnTo>
                  <a:pt x="12491" y="14400"/>
                </a:lnTo>
                <a:lnTo>
                  <a:pt x="15949" y="14400"/>
                </a:lnTo>
                <a:arcTo wR="8209" hR="21600" stAng="-2575905" swAng="-2686215"/>
                <a:lnTo>
                  <a:pt x="9071" y="119"/>
                </a:lnTo>
                <a:arcTo wR="8209" hR="21600" stAng="-5537880" swAng="-5262120"/>
                <a:close/>
              </a:path>
              <a:path fill="darkenLess" w="21600" h="21600">
                <a:moveTo>
                  <a:pt x="0" y="21600"/>
                </a:moveTo>
                <a:arcTo wR="8209" hR="21600" stAng="10800000" swAng="5400000"/>
                <a:lnTo>
                  <a:pt x="8209" y="0"/>
                </a:lnTo>
                <a:arcTo wR="8209" hR="21600" stAng="-5400000" swAng="137880"/>
                <a:lnTo>
                  <a:pt x="9071" y="119"/>
                </a:lnTo>
                <a:arcTo wR="8209" hR="21600" stAng="-5537880" swAng="-5262120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3352680" y="29718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ycle Diagr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5105520" y="9907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029200" y="5943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90720" y="32004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t’s 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Tim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o Wri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rst Draft of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Use the information you gathered.  Add whatever you think nece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14400" y="6094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MEMBER, IT’S JUST A DRAF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0" lang="en-US" sz="6000" spc="-1" strike="noStrike">
                <a:solidFill>
                  <a:srgbClr val="66ff33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ff9900"/>
                </a:solidFill>
                <a:latin typeface="Times New Roman"/>
              </a:rPr>
              <a:t>v</a:t>
            </a:r>
            <a:r>
              <a:rPr b="0" lang="en-US" sz="6000" spc="-1" strike="noStrike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6000" spc="-1" strike="noStrike">
                <a:solidFill>
                  <a:srgbClr val="ff00ff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66ff33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Reread your d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another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What will you chan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What will you dele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will you create inter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Did you follow direc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Do whatever is needed to make it gre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5280" y="2286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Be the Edit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219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PIT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752480" y="2590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NC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09480" y="38862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828800" y="4952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5334120" y="1676520"/>
            <a:ext cx="327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Buddy 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epare final 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of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hare with a fri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esent final cop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905120" y="1905120"/>
            <a:ext cx="58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What You Wrote.  You Are Now an Author!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514600" y="5334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85800" y="76212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njoy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riting is boring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Do you write a little every d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 you write about things important to yo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metimes don’t worry about mistak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ometimes take time to ed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read to learn.  We write to lea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Explore each do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Make writing powerfu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Writing Pro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rewriting:  Choosing and collecting to make a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riting: first d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Revising:  Clear up “wandering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diting: spelling, grammar, punc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blishing:  Putting your writing out there for others to see, hear, read, enjo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llecting:  Keep a portfolio of your writing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er, Wri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d 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d Magaz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d Newspa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d Internet New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sit Books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k Your Tea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Out What Your Parents 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Times New Roman"/>
              </a:rPr>
              <a:t>Be An Investigator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As you read, investigate how the author wrote “his” 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Who was the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What was the purpo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How did the author describe his characters and set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What as the plot?  Why do you think it was chos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our Types of 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228600" y="1981080"/>
          <a:ext cx="8686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686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58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’ve decided what style of writing, now wha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666880" y="1143000"/>
            <a:ext cx="403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t’s time to collect details to support your wr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880" y="23623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ther your thou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752480" y="4724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Read about your su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5943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Surf the Ne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962520" y="54100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cipate.  Be a part of what you are wri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486400" y="3962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Watch videos, T.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343400" y="28954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Interview exper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90720" y="3733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alk it 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705720" y="2133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Visit the libr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7200" y="304920"/>
            <a:ext cx="838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reate Cool Graphic Organizers                            to                                                                   Organize Your Thoughts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ishb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ime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enn Dia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K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Line Dia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Sensory Ch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xplanation Dia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5 W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1295280" y="1447920"/>
            <a:ext cx="3657600" cy="3047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276720" y="3048120"/>
            <a:ext cx="3504960" cy="32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10"/>
          <p:cNvSpPr/>
          <p:nvPr/>
        </p:nvSpPr>
        <p:spPr>
          <a:xfrm flipV="1" rot="8688600">
            <a:off x="5181480" y="2056320"/>
            <a:ext cx="914400" cy="685800"/>
          </a:xfrm>
          <a:prstGeom prst="rightArrow">
            <a:avLst>
              <a:gd name="adj1" fmla="val 25935"/>
              <a:gd name="adj2" fmla="val 23611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 flipH="1">
            <a:off x="3200400" y="30481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276720" y="3048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095880" y="1905120"/>
            <a:ext cx="2667240" cy="459720"/>
          </a:xfrm>
          <a:prstGeom prst="rect">
            <a:avLst/>
          </a:prstGeom>
          <a:solidFill>
            <a:srgbClr val="ffff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ENN DIA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76720" y="3048120"/>
            <a:ext cx="1676160" cy="13737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n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295280" y="1523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Dif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4876920" y="5791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Dif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23:41:23Z</dcterms:created>
  <dc:creator>Collin Sewell</dc:creator>
  <dc:description/>
  <dc:language>en-US</dc:language>
  <cp:lastModifiedBy>Hilary C Wiltshire</cp:lastModifiedBy>
  <dcterms:modified xsi:type="dcterms:W3CDTF">2013-08-13T15:46:52Z</dcterms:modified>
  <cp:revision>20</cp:revision>
  <dc:subject/>
  <dc:title>Student Writing Workshop</dc:title>
</cp:coreProperties>
</file>